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glass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AF4C-0D9D-424D-A2CB-498E85BC3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CBA4-BE7D-4AF5-A709-076E09EB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92E4-27A0-4FDC-9828-5E97B9DFC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756D-E353-4839-A9FD-8A42957D9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AF21-D1C8-41D1-9028-FC27F9080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1234-529E-4673-A832-8BC160EB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2D76-AA11-4DAA-91C7-5CAE2C5B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EF3B-4713-4307-B69C-EAAFAA68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DC6F-41CA-4107-8353-6638D209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279D-3837-46D4-A673-C8E8B558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4670-42E2-40BA-8065-DFB3811A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EB08-B201-4B61-BAD9-C4070208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CB35-8F29-4CA2-AFFE-F8A837AE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8092-F1E0-4F80-9109-4659C115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88CF-5C94-4067-8878-197C2F4D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0368-BEB3-45FC-B284-EFD6262B3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47FB-C72B-4F22-885C-9B989068E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5A6A-CE64-461B-A5B0-2301608A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0E60-D83C-4B25-98C1-790645C1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E2C3-C40D-43A3-9BCC-C0B1C540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D281-3922-4605-8B44-4134CC4E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F3A9-6DE0-4FE7-9292-1007D27F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9CA7-260D-4A71-8FB6-CFB67C8C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B181-CAF5-49A7-97CA-B898D82E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371600" indent="-4572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752480" indent="-3808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209680" indent="-3808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209680" indent="-3808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209680" indent="-3808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0920" y="6324480"/>
            <a:ext cx="3124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5A82-2C09-4CDF-8784-E441EB759CC8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371600" indent="-4572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752480" indent="-3808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209680" indent="-3808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209680" indent="-3808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209680" indent="-3808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88A3-7985-4886-9526-CAAC90BA1361}" type="slidenum">
              <a:rPr b="0" lang="en-CA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35280" y="3141720"/>
            <a:ext cx="446400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Arial"/>
                <a:ea typeface="Arial"/>
              </a:rPr>
              <a:t>Chapter 2: Situational Crime Prevention</a:t>
            </a:r>
            <a:endParaRPr b="0" lang="en-US" sz="36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276720" y="501336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2209680" y="404640"/>
            <a:ext cx="6934320" cy="21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cc66"/>
                </a:solidFill>
                <a:latin typeface="Arial"/>
                <a:ea typeface="Arial"/>
              </a:rPr>
              <a:t>Crime Prevention: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cc66"/>
                </a:solidFill>
                <a:latin typeface="Arial"/>
                <a:ea typeface="Arial"/>
              </a:rPr>
              <a:t>Theory and Practic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3" name="Picture 8" descr="Lockit"/>
          <p:cNvPicPr/>
          <p:nvPr/>
        </p:nvPicPr>
        <p:blipFill>
          <a:blip r:embed="rId1"/>
          <a:stretch/>
        </p:blipFill>
        <p:spPr>
          <a:xfrm>
            <a:off x="6300720" y="2852640"/>
            <a:ext cx="2573280" cy="2881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rebuchet MS"/>
                <a:ea typeface="Times New Roman"/>
              </a:rPr>
              <a:t>Broken Windows Theory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4432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Minor incivilities, if unchecked &amp; uncontrolled, will promote more serious crim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‘</a:t>
            </a:r>
            <a:r>
              <a:rPr b="0" lang="en-US" sz="20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Incivilities’ act as the catalyst: they represent signs of disorder &amp; signify that no one cares, that the environment lacks regula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Solution: stop &amp; reverse the cycle of decline in its earliest stages by a focus on “order maintenance” &amp; aggressive policing of incivilitie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3" name="Picture 4" descr="Window1"/>
          <p:cNvPicPr/>
          <p:nvPr/>
        </p:nvPicPr>
        <p:blipFill>
          <a:blip r:embed="rId1"/>
          <a:stretch/>
        </p:blipFill>
        <p:spPr>
          <a:xfrm>
            <a:off x="5991120" y="1916280"/>
            <a:ext cx="2482920" cy="3457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SCP Definition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rebuchet MS"/>
              </a:rPr>
              <a:t>Situational crime prevention involve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measures directed at </a:t>
            </a:r>
            <a:r>
              <a:rPr b="0" lang="en-CA" sz="2000" spc="-1" strike="noStrike">
                <a:solidFill>
                  <a:srgbClr val="ff0000"/>
                </a:solidFill>
                <a:latin typeface="Trebuchet MS"/>
              </a:rPr>
              <a:t>s</a:t>
            </a:r>
            <a:r>
              <a:rPr b="1" lang="en-CA" sz="2000" spc="-1" strike="noStrike">
                <a:solidFill>
                  <a:srgbClr val="ff0000"/>
                </a:solidFill>
                <a:latin typeface="Trebuchet MS"/>
              </a:rPr>
              <a:t>pecific forms</a:t>
            </a: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 of crime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which involve the management, design or manipulation of </a:t>
            </a:r>
            <a:r>
              <a:rPr b="1" lang="en-CA" sz="2000" spc="-1" strike="noStrike">
                <a:solidFill>
                  <a:srgbClr val="ff0000"/>
                </a:solidFill>
                <a:latin typeface="Trebuchet MS"/>
              </a:rPr>
              <a:t>immediate environment</a:t>
            </a: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 in which these crimes occur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so as to </a:t>
            </a:r>
            <a:r>
              <a:rPr b="1" lang="en-CA" sz="2000" spc="-1" strike="noStrike">
                <a:solidFill>
                  <a:srgbClr val="ff0000"/>
                </a:solidFill>
                <a:latin typeface="Trebuchet MS"/>
              </a:rPr>
              <a:t>reduce the opportunities</a:t>
            </a: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 for these crimes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as perceived by </a:t>
            </a:r>
            <a:r>
              <a:rPr b="1" lang="en-CA" sz="2000" spc="-1" strike="noStrike">
                <a:solidFill>
                  <a:srgbClr val="eaeaea"/>
                </a:solidFill>
                <a:latin typeface="Trebuchet MS"/>
              </a:rPr>
              <a:t>a </a:t>
            </a:r>
            <a:r>
              <a:rPr b="1" lang="en-CA" sz="2000" spc="-1" strike="noStrike">
                <a:solidFill>
                  <a:srgbClr val="ff0000"/>
                </a:solidFill>
                <a:latin typeface="Trebuchet MS"/>
              </a:rPr>
              <a:t>broad range of potential offenders</a:t>
            </a:r>
            <a:r>
              <a:rPr b="0" lang="en-CA" sz="2400" spc="-1" strike="noStrike">
                <a:solidFill>
                  <a:srgbClr val="eaeaea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eaeaea"/>
                </a:solidFill>
                <a:latin typeface="Trebuchet MS"/>
              </a:rPr>
              <a:t>Source: Clarke, 1997, 4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Reducing Opportunity, Pt. I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7280" y="1483920"/>
            <a:ext cx="77724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rebuchet MS"/>
              </a:rPr>
              <a:t>Criminal opportunity is reduced by:</a:t>
            </a: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Increasing </a:t>
            </a:r>
            <a:r>
              <a:rPr b="1" lang="en-GB" sz="2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the effort</a:t>
            </a:r>
            <a:r>
              <a:rPr b="1" lang="en-GB" sz="20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involved in crime by making the targets harder to get at or hindering the commission of crime (e.g., target hardening, access control, exit &amp; entrance screening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Increasing the risks</a:t>
            </a:r>
            <a:r>
              <a:rPr b="0" lang="en-GB" sz="20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, whether real or perceived, of detection &amp; apprehension (e.g., surveillance, screening, profiling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Reducing the rewards </a:t>
            </a:r>
            <a:r>
              <a:rPr b="0" lang="en-GB" sz="20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(e.g., target removal, property marking, merchandise ink-tags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Reducing provocations </a:t>
            </a:r>
            <a:r>
              <a:rPr b="0" lang="en-GB" sz="20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that may lead to criminal or violent behavio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eaeaea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Reducing Opportunity, Pt. II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rebuchet MS"/>
              </a:rPr>
              <a:t>Opportunity for crime can be reduced directly &amp; indirectly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60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Trebuchet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0000"/>
                </a:solidFill>
                <a:latin typeface="Trebuchet MS"/>
              </a:rPr>
              <a:t>Directly</a:t>
            </a: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: “organizing” the immediate physical environment (e.g., target hardening, access control, target removal, etc.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60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60240" indent="-6602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Trebuchet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0000"/>
                </a:solidFill>
                <a:latin typeface="Trebuchet MS"/>
              </a:rPr>
              <a:t>Indirectly</a:t>
            </a: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: “organizing” people to foster or reinforce their individual &amp; collective behaviour to minimize their vulnerability to crime (e.g., CPTED, Neighbourhood Watch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103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103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103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103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103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103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cc66"/>
                </a:solidFill>
                <a:latin typeface="Trebuchet MS"/>
              </a:rPr>
              <a:t>25 Opportunity Reduction Techniques</a:t>
            </a:r>
            <a:endParaRPr b="0" lang="en-US" sz="3200" spc="-1" strike="noStrike">
              <a:solidFill>
                <a:srgbClr val="ffcc66"/>
              </a:solidFill>
              <a:latin typeface="Trebuchet MS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523880" y="1397160"/>
          <a:ext cx="7224840" cy="5260680"/>
        </p:xfrm>
        <a:graphic>
          <a:graphicData uri="http://schemas.openxmlformats.org/drawingml/2006/table">
            <a:tbl>
              <a:tblPr/>
              <a:tblGrid>
                <a:gridCol w="1608120"/>
                <a:gridCol w="5616720"/>
              </a:tblGrid>
              <a:tr h="3711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eeb00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eeb00b"/>
                    </a:solidFill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Increase the Effort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8e4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Harden target (deadbolt locks, fences, window bar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Access control (entry phones,  prickly shrubs, psychological barrier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Deflect offenders (bus stop placement, tavern location, road closure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22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rol crime facilitators (gun control, plastic cups, caller ID, credit card photo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8e4cc"/>
                    </a:solidFill>
                  </a:tcPr>
                </a:tc>
              </a:tr>
              <a:tr h="1373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Increase the Risk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2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50760" indent="-50760">
                        <a:lnSpc>
                          <a:spcPct val="122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tural surveillance (CPTED, Neighborhood Watch,  street lighting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50760" indent="-50760">
                        <a:lnSpc>
                          <a:spcPct val="122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veillance by employees (undercover security, raised kiosk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50760" indent="-50760"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Intentional surveillance (security mirrors, CCTV, security guards, citizen patrol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50760" indent="-50760"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Entry / Exit screening (airport metal detectors, retail theft exit controls) 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50760" indent="-50760"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Guardianship (being at home, carrying a cell phone, police, security guard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50760" indent="-50760"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Place managers (apartment manager, bus driver, teacher, flight attendant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50760" indent="-50760"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Reduce anonymity (school uniforms, taxi id badges, “how’s my driving truck” decal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2e7"/>
                    </a:solidFill>
                  </a:tcPr>
                </a:tc>
              </a:tr>
              <a:tr h="77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Reduce the Rewards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8e4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Property marking (engraving valuable electronics, automobile VIN, cattle branding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Remove / conceal targets (removable car stereo, move items to car trunk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Deny benefits (ink merchandise tags, security codes for electronics, graffiti removal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Disrupt markets for stolen goods (regulate/crack down on pawn shops, street vendor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8e4cc"/>
                    </a:solidFill>
                  </a:tcPr>
                </a:tc>
              </a:tr>
              <a:tr h="976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Reduce Provocations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2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Reduce frustration &amp; stress (providing needed information to agitated people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Avoid disputes (standardized taxi fares from airport to city centre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22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duce arousal &amp; temptation (gender-neutral listings, restricting jobs for pedophile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Neutralize peer pressure (“Friends don't let friends drink &amp; drive” ad campaign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Discourage imitation (regulate violence in movies, remove graffiti &amp; vandalism) 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cf2e7"/>
                    </a:solidFill>
                  </a:tcPr>
                </a:tc>
              </a:tr>
              <a:tr h="987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Remove Excuses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8e4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50760" indent="-50760">
                        <a:lnSpc>
                          <a:spcPct val="122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et rules (government laws, code of conduct regulations in taverns &amp; public place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50760" indent="-50760">
                        <a:lnSpc>
                          <a:spcPct val="122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imulate conscience (roadside speedometers, “Shoplifting is stealing” sign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50760" indent="-50760"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Facilitate compliance (easy library checkout, public lavatories, public trash bins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50760" indent="-50760"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Control disinhibitors (no liquor after a certain time, V-chip, ignition lock)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50760" indent="-50760">
                        <a:lnSpc>
                          <a:spcPct val="115000"/>
                        </a:lnSpc>
                        <a:buClr>
                          <a:srgbClr val="200b5b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200b5b"/>
                          </a:solidFill>
                          <a:latin typeface="Calibri"/>
                          <a:ea typeface="Calibri"/>
                        </a:rPr>
                        <a:t>Post instructions (road signs, code of conduct signs) 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8e4cc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Critiques of SCP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752480" y="14479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1676520" y="1523880"/>
            <a:ext cx="685800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6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Only addresses the symptoms of crime</a:t>
            </a:r>
            <a:r>
              <a:rPr b="0" lang="en-CA" sz="1800" spc="-1" strike="noStrike">
                <a:solidFill>
                  <a:srgbClr val="eaeaea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Does not prevent crime, may displace it</a:t>
            </a:r>
            <a:r>
              <a:rPr b="0" lang="en-CA" sz="1800" spc="-1" strike="noStrike">
                <a:solidFill>
                  <a:srgbClr val="eaeaea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Offenders do not always act rationall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Oversimplifies relationship between physical environment 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&amp; human behavior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Overemphasizes property crime (e.g., ignores domestic violence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May undermine informal social contro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Surveillance can be intrusive &amp; may infringe upon privacy</a:t>
            </a:r>
            <a:r>
              <a:rPr b="0" lang="en-CA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Concentrates crime in poor areas/may be socially divisive</a:t>
            </a:r>
            <a:r>
              <a:rPr b="0" lang="en-CA" sz="20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800" spc="-1" strike="noStrike">
                <a:solidFill>
                  <a:srgbClr val="ffcc66"/>
                </a:solidFill>
                <a:latin typeface="Trebuchet MS"/>
              </a:rPr>
              <a:t>Situational vs. Social Development</a:t>
            </a:r>
            <a:endParaRPr b="0" lang="en-US" sz="3800" spc="-1" strike="noStrike">
              <a:solidFill>
                <a:srgbClr val="ffcc66"/>
              </a:solidFill>
              <a:latin typeface="Trebuchet MS"/>
            </a:endParaRPr>
          </a:p>
        </p:txBody>
      </p:sp>
      <p:grpSp>
        <p:nvGrpSpPr>
          <p:cNvPr id="127" name="Group 101"/>
          <p:cNvGrpSpPr/>
          <p:nvPr/>
        </p:nvGrpSpPr>
        <p:grpSpPr>
          <a:xfrm>
            <a:off x="1371600" y="1371600"/>
            <a:ext cx="7238520" cy="4876920"/>
            <a:chOff x="1371600" y="1371600"/>
            <a:chExt cx="7238520" cy="4876920"/>
          </a:xfrm>
        </p:grpSpPr>
        <p:grpSp>
          <p:nvGrpSpPr>
            <p:cNvPr id="128" name="Group 99"/>
            <p:cNvGrpSpPr/>
            <p:nvPr/>
          </p:nvGrpSpPr>
          <p:grpSpPr>
            <a:xfrm>
              <a:off x="1375200" y="1373760"/>
              <a:ext cx="7230600" cy="4872240"/>
              <a:chOff x="1375200" y="1373760"/>
              <a:chExt cx="7230600" cy="4872240"/>
            </a:xfrm>
          </p:grpSpPr>
          <p:grpSp>
            <p:nvGrpSpPr>
              <p:cNvPr id="129" name="Group 38"/>
              <p:cNvGrpSpPr/>
              <p:nvPr/>
            </p:nvGrpSpPr>
            <p:grpSpPr>
              <a:xfrm>
                <a:off x="1375200" y="1373760"/>
                <a:ext cx="1432440" cy="414360"/>
                <a:chOff x="1375200" y="1373760"/>
                <a:chExt cx="1432440" cy="414360"/>
              </a:xfrm>
            </p:grpSpPr>
            <p:sp>
              <p:nvSpPr>
                <p:cNvPr id="130" name="Rectangle 6"/>
                <p:cNvSpPr/>
                <p:nvPr/>
              </p:nvSpPr>
              <p:spPr>
                <a:xfrm>
                  <a:off x="1451160" y="1373760"/>
                  <a:ext cx="128016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Comic Sans MS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Rectangle 37"/>
                <p:cNvSpPr/>
                <p:nvPr/>
              </p:nvSpPr>
              <p:spPr>
                <a:xfrm>
                  <a:off x="1375200" y="1373760"/>
                  <a:ext cx="143244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Group 40"/>
              <p:cNvGrpSpPr/>
              <p:nvPr/>
            </p:nvGrpSpPr>
            <p:grpSpPr>
              <a:xfrm>
                <a:off x="2808000" y="1373760"/>
                <a:ext cx="2759040" cy="414360"/>
                <a:chOff x="2808000" y="1373760"/>
                <a:chExt cx="2759040" cy="414360"/>
              </a:xfrm>
            </p:grpSpPr>
            <p:sp>
              <p:nvSpPr>
                <p:cNvPr id="133" name="Rectangle 7"/>
                <p:cNvSpPr/>
                <p:nvPr/>
              </p:nvSpPr>
              <p:spPr>
                <a:xfrm>
                  <a:off x="2883600" y="1373760"/>
                  <a:ext cx="260712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Situational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Rectangle 39"/>
                <p:cNvSpPr/>
                <p:nvPr/>
              </p:nvSpPr>
              <p:spPr>
                <a:xfrm>
                  <a:off x="2808000" y="1373760"/>
                  <a:ext cx="275904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Group 42"/>
              <p:cNvGrpSpPr/>
              <p:nvPr/>
            </p:nvGrpSpPr>
            <p:grpSpPr>
              <a:xfrm>
                <a:off x="5567400" y="1373760"/>
                <a:ext cx="3038400" cy="414360"/>
                <a:chOff x="5567400" y="1373760"/>
                <a:chExt cx="3038400" cy="414360"/>
              </a:xfrm>
            </p:grpSpPr>
            <p:sp>
              <p:nvSpPr>
                <p:cNvPr id="136" name="Rectangle 8"/>
                <p:cNvSpPr/>
                <p:nvPr/>
              </p:nvSpPr>
              <p:spPr>
                <a:xfrm>
                  <a:off x="5643360" y="1373760"/>
                  <a:ext cx="288612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Social Development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Rectangle 41"/>
                <p:cNvSpPr/>
                <p:nvPr/>
              </p:nvSpPr>
              <p:spPr>
                <a:xfrm>
                  <a:off x="5567400" y="1373760"/>
                  <a:ext cx="303840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Group 44"/>
              <p:cNvGrpSpPr/>
              <p:nvPr/>
            </p:nvGrpSpPr>
            <p:grpSpPr>
              <a:xfrm>
                <a:off x="1375200" y="1788120"/>
                <a:ext cx="1432440" cy="1243800"/>
                <a:chOff x="1375200" y="1788120"/>
                <a:chExt cx="1432440" cy="1243800"/>
              </a:xfrm>
            </p:grpSpPr>
            <p:sp>
              <p:nvSpPr>
                <p:cNvPr id="139" name="Rectangle 9"/>
                <p:cNvSpPr/>
                <p:nvPr/>
              </p:nvSpPr>
              <p:spPr>
                <a:xfrm>
                  <a:off x="1451160" y="1788120"/>
                  <a:ext cx="1280160" cy="124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Foci: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Rectangle 43"/>
                <p:cNvSpPr/>
                <p:nvPr/>
              </p:nvSpPr>
              <p:spPr>
                <a:xfrm>
                  <a:off x="1375200" y="1788120"/>
                  <a:ext cx="1432440" cy="12438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Group 46"/>
              <p:cNvGrpSpPr/>
              <p:nvPr/>
            </p:nvGrpSpPr>
            <p:grpSpPr>
              <a:xfrm>
                <a:off x="2808000" y="1788120"/>
                <a:ext cx="2759040" cy="414720"/>
                <a:chOff x="2808000" y="1788120"/>
                <a:chExt cx="2759040" cy="414720"/>
              </a:xfrm>
            </p:grpSpPr>
            <p:sp>
              <p:nvSpPr>
                <p:cNvPr id="142" name="Rectangle 10"/>
                <p:cNvSpPr/>
                <p:nvPr/>
              </p:nvSpPr>
              <p:spPr>
                <a:xfrm>
                  <a:off x="2883600" y="1788120"/>
                  <a:ext cx="260712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Criminal opportunity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Rectangle 45"/>
                <p:cNvSpPr/>
                <p:nvPr/>
              </p:nvSpPr>
              <p:spPr>
                <a:xfrm>
                  <a:off x="2808000" y="1788120"/>
                  <a:ext cx="275904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Group 48"/>
              <p:cNvGrpSpPr/>
              <p:nvPr/>
            </p:nvGrpSpPr>
            <p:grpSpPr>
              <a:xfrm>
                <a:off x="5567400" y="1788120"/>
                <a:ext cx="3038400" cy="414720"/>
                <a:chOff x="5567400" y="1788120"/>
                <a:chExt cx="3038400" cy="414720"/>
              </a:xfrm>
            </p:grpSpPr>
            <p:sp>
              <p:nvSpPr>
                <p:cNvPr id="145" name="Rectangle 11"/>
                <p:cNvSpPr/>
                <p:nvPr/>
              </p:nvSpPr>
              <p:spPr>
                <a:xfrm>
                  <a:off x="5643360" y="1788120"/>
                  <a:ext cx="288612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Root cases of crime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Rectangle 47"/>
                <p:cNvSpPr/>
                <p:nvPr/>
              </p:nvSpPr>
              <p:spPr>
                <a:xfrm>
                  <a:off x="5567400" y="1788120"/>
                  <a:ext cx="303840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Group 50"/>
              <p:cNvGrpSpPr/>
              <p:nvPr/>
            </p:nvGrpSpPr>
            <p:grpSpPr>
              <a:xfrm>
                <a:off x="2808000" y="2203200"/>
                <a:ext cx="2759040" cy="414360"/>
                <a:chOff x="2808000" y="2203200"/>
                <a:chExt cx="2759040" cy="414360"/>
              </a:xfrm>
            </p:grpSpPr>
            <p:sp>
              <p:nvSpPr>
                <p:cNvPr id="148" name="Rectangle 12"/>
                <p:cNvSpPr/>
                <p:nvPr/>
              </p:nvSpPr>
              <p:spPr>
                <a:xfrm>
                  <a:off x="2883600" y="2203200"/>
                  <a:ext cx="260712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Offence (criminal act)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Rectangle 49"/>
                <p:cNvSpPr/>
                <p:nvPr/>
              </p:nvSpPr>
              <p:spPr>
                <a:xfrm>
                  <a:off x="2808000" y="2203200"/>
                  <a:ext cx="275904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Group 52"/>
              <p:cNvGrpSpPr/>
              <p:nvPr/>
            </p:nvGrpSpPr>
            <p:grpSpPr>
              <a:xfrm>
                <a:off x="5567400" y="2203200"/>
                <a:ext cx="3038400" cy="414360"/>
                <a:chOff x="5567400" y="2203200"/>
                <a:chExt cx="3038400" cy="414360"/>
              </a:xfrm>
            </p:grpSpPr>
            <p:sp>
              <p:nvSpPr>
                <p:cNvPr id="151" name="Rectangle 13"/>
                <p:cNvSpPr/>
                <p:nvPr/>
              </p:nvSpPr>
              <p:spPr>
                <a:xfrm>
                  <a:off x="5643360" y="2203200"/>
                  <a:ext cx="288612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Offending (criminogenic characteristics)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Rectangle 51"/>
                <p:cNvSpPr/>
                <p:nvPr/>
              </p:nvSpPr>
              <p:spPr>
                <a:xfrm>
                  <a:off x="5567400" y="2203200"/>
                  <a:ext cx="303840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Group 54"/>
              <p:cNvGrpSpPr/>
              <p:nvPr/>
            </p:nvGrpSpPr>
            <p:grpSpPr>
              <a:xfrm>
                <a:off x="2808000" y="2617560"/>
                <a:ext cx="2759040" cy="414360"/>
                <a:chOff x="2808000" y="2617560"/>
                <a:chExt cx="2759040" cy="414360"/>
              </a:xfrm>
            </p:grpSpPr>
            <p:sp>
              <p:nvSpPr>
                <p:cNvPr id="154" name="Rectangle 14"/>
                <p:cNvSpPr/>
                <p:nvPr/>
              </p:nvSpPr>
              <p:spPr>
                <a:xfrm>
                  <a:off x="2883600" y="2617560"/>
                  <a:ext cx="260712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(Potential) victim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Rectangle 53"/>
                <p:cNvSpPr/>
                <p:nvPr/>
              </p:nvSpPr>
              <p:spPr>
                <a:xfrm>
                  <a:off x="2808000" y="2617560"/>
                  <a:ext cx="275904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Group 56"/>
              <p:cNvGrpSpPr/>
              <p:nvPr/>
            </p:nvGrpSpPr>
            <p:grpSpPr>
              <a:xfrm>
                <a:off x="5567400" y="2617560"/>
                <a:ext cx="3038400" cy="414360"/>
                <a:chOff x="5567400" y="2617560"/>
                <a:chExt cx="3038400" cy="414360"/>
              </a:xfrm>
            </p:grpSpPr>
            <p:sp>
              <p:nvSpPr>
                <p:cNvPr id="157" name="Rectangle 15"/>
                <p:cNvSpPr/>
                <p:nvPr/>
              </p:nvSpPr>
              <p:spPr>
                <a:xfrm>
                  <a:off x="5643360" y="2617560"/>
                  <a:ext cx="288612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Offender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Rectangle 55"/>
                <p:cNvSpPr/>
                <p:nvPr/>
              </p:nvSpPr>
              <p:spPr>
                <a:xfrm>
                  <a:off x="5567400" y="2617560"/>
                  <a:ext cx="303840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Group 58"/>
              <p:cNvGrpSpPr/>
              <p:nvPr/>
            </p:nvGrpSpPr>
            <p:grpSpPr>
              <a:xfrm>
                <a:off x="1375200" y="3032280"/>
                <a:ext cx="1432440" cy="518400"/>
                <a:chOff x="1375200" y="3032280"/>
                <a:chExt cx="1432440" cy="518400"/>
              </a:xfrm>
            </p:grpSpPr>
            <p:sp>
              <p:nvSpPr>
                <p:cNvPr id="160" name="Rectangle 16"/>
                <p:cNvSpPr/>
                <p:nvPr/>
              </p:nvSpPr>
              <p:spPr>
                <a:xfrm>
                  <a:off x="1451160" y="3032280"/>
                  <a:ext cx="128016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Crime problem addressed: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Rectangle 57"/>
                <p:cNvSpPr/>
                <p:nvPr/>
              </p:nvSpPr>
              <p:spPr>
                <a:xfrm>
                  <a:off x="1375200" y="3032280"/>
                  <a:ext cx="1432440" cy="518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Group 60"/>
              <p:cNvGrpSpPr/>
              <p:nvPr/>
            </p:nvGrpSpPr>
            <p:grpSpPr>
              <a:xfrm>
                <a:off x="2808000" y="3032280"/>
                <a:ext cx="2759040" cy="518400"/>
                <a:chOff x="2808000" y="3032280"/>
                <a:chExt cx="2759040" cy="518400"/>
              </a:xfrm>
            </p:grpSpPr>
            <p:sp>
              <p:nvSpPr>
                <p:cNvPr id="163" name="Rectangle 17"/>
                <p:cNvSpPr/>
                <p:nvPr/>
              </p:nvSpPr>
              <p:spPr>
                <a:xfrm>
                  <a:off x="2883600" y="3032280"/>
                  <a:ext cx="260712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Property crime; strategy geared toward specific type of crime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Rectangle 59"/>
                <p:cNvSpPr/>
                <p:nvPr/>
              </p:nvSpPr>
              <p:spPr>
                <a:xfrm>
                  <a:off x="2808000" y="3032280"/>
                  <a:ext cx="2759040" cy="518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Group 62"/>
              <p:cNvGrpSpPr/>
              <p:nvPr/>
            </p:nvGrpSpPr>
            <p:grpSpPr>
              <a:xfrm>
                <a:off x="5567400" y="3032280"/>
                <a:ext cx="3038400" cy="518400"/>
                <a:chOff x="5567400" y="3032280"/>
                <a:chExt cx="3038400" cy="518400"/>
              </a:xfrm>
            </p:grpSpPr>
            <p:sp>
              <p:nvSpPr>
                <p:cNvPr id="166" name="Rectangle 18"/>
                <p:cNvSpPr/>
                <p:nvPr/>
              </p:nvSpPr>
              <p:spPr>
                <a:xfrm>
                  <a:off x="5643360" y="3032280"/>
                  <a:ext cx="288612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No particular focus: all underlying causes of any potential anti-social behaviour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Rectangle 61"/>
                <p:cNvSpPr/>
                <p:nvPr/>
              </p:nvSpPr>
              <p:spPr>
                <a:xfrm>
                  <a:off x="5567400" y="3032280"/>
                  <a:ext cx="3038400" cy="518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Group 64"/>
              <p:cNvGrpSpPr/>
              <p:nvPr/>
            </p:nvGrpSpPr>
            <p:grpSpPr>
              <a:xfrm>
                <a:off x="1375200" y="3550680"/>
                <a:ext cx="1432440" cy="518400"/>
                <a:chOff x="1375200" y="3550680"/>
                <a:chExt cx="1432440" cy="518400"/>
              </a:xfrm>
            </p:grpSpPr>
            <p:sp>
              <p:nvSpPr>
                <p:cNvPr id="169" name="Rectangle 19"/>
                <p:cNvSpPr/>
                <p:nvPr/>
              </p:nvSpPr>
              <p:spPr>
                <a:xfrm>
                  <a:off x="1451160" y="3550680"/>
                  <a:ext cx="128016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Understanding of causes of crime: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Rectangle 63"/>
                <p:cNvSpPr/>
                <p:nvPr/>
              </p:nvSpPr>
              <p:spPr>
                <a:xfrm>
                  <a:off x="1375200" y="3550680"/>
                  <a:ext cx="1432440" cy="518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Group 66"/>
              <p:cNvGrpSpPr/>
              <p:nvPr/>
            </p:nvGrpSpPr>
            <p:grpSpPr>
              <a:xfrm>
                <a:off x="2808000" y="3550680"/>
                <a:ext cx="2759040" cy="518400"/>
                <a:chOff x="2808000" y="3550680"/>
                <a:chExt cx="2759040" cy="518400"/>
              </a:xfrm>
            </p:grpSpPr>
            <p:sp>
              <p:nvSpPr>
                <p:cNvPr id="172" name="Rectangle 20"/>
                <p:cNvSpPr/>
                <p:nvPr/>
              </p:nvSpPr>
              <p:spPr>
                <a:xfrm>
                  <a:off x="2883600" y="3550680"/>
                  <a:ext cx="260712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Opportunity, motivated offender, unguarded environment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Rectangle 65"/>
                <p:cNvSpPr/>
                <p:nvPr/>
              </p:nvSpPr>
              <p:spPr>
                <a:xfrm>
                  <a:off x="2808000" y="3550680"/>
                  <a:ext cx="2759040" cy="518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Group 68"/>
              <p:cNvGrpSpPr/>
              <p:nvPr/>
            </p:nvGrpSpPr>
            <p:grpSpPr>
              <a:xfrm>
                <a:off x="5567400" y="3550680"/>
                <a:ext cx="3038400" cy="518400"/>
                <a:chOff x="5567400" y="3550680"/>
                <a:chExt cx="3038400" cy="518400"/>
              </a:xfrm>
            </p:grpSpPr>
            <p:sp>
              <p:nvSpPr>
                <p:cNvPr id="175" name="Rectangle 21"/>
                <p:cNvSpPr/>
                <p:nvPr/>
              </p:nvSpPr>
              <p:spPr>
                <a:xfrm>
                  <a:off x="5643360" y="3550680"/>
                  <a:ext cx="2886120" cy="51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Personal, social, economic, cultural factors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Rectangle 67"/>
                <p:cNvSpPr/>
                <p:nvPr/>
              </p:nvSpPr>
              <p:spPr>
                <a:xfrm>
                  <a:off x="5567400" y="3550680"/>
                  <a:ext cx="3038400" cy="5184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Group 70"/>
              <p:cNvGrpSpPr/>
              <p:nvPr/>
            </p:nvGrpSpPr>
            <p:grpSpPr>
              <a:xfrm>
                <a:off x="1375200" y="4069080"/>
                <a:ext cx="1432440" cy="518040"/>
                <a:chOff x="1375200" y="4069080"/>
                <a:chExt cx="1432440" cy="518040"/>
              </a:xfrm>
            </p:grpSpPr>
            <p:sp>
              <p:nvSpPr>
                <p:cNvPr id="178" name="Rectangle 22"/>
                <p:cNvSpPr/>
                <p:nvPr/>
              </p:nvSpPr>
              <p:spPr>
                <a:xfrm>
                  <a:off x="1451160" y="4069080"/>
                  <a:ext cx="1280160" cy="51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Basic approach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Rectangle 69"/>
                <p:cNvSpPr/>
                <p:nvPr/>
              </p:nvSpPr>
              <p:spPr>
                <a:xfrm>
                  <a:off x="1375200" y="4069080"/>
                  <a:ext cx="1432440" cy="5180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Group 72"/>
              <p:cNvGrpSpPr/>
              <p:nvPr/>
            </p:nvGrpSpPr>
            <p:grpSpPr>
              <a:xfrm>
                <a:off x="2808000" y="4069080"/>
                <a:ext cx="2759040" cy="518040"/>
                <a:chOff x="2808000" y="4069080"/>
                <a:chExt cx="2759040" cy="518040"/>
              </a:xfrm>
            </p:grpSpPr>
            <p:sp>
              <p:nvSpPr>
                <p:cNvPr id="181" name="Rectangle 23"/>
                <p:cNvSpPr/>
                <p:nvPr/>
              </p:nvSpPr>
              <p:spPr>
                <a:xfrm>
                  <a:off x="2883600" y="4069080"/>
                  <a:ext cx="2607120" cy="51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Alteration to physical environment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Rectangle 71"/>
                <p:cNvSpPr/>
                <p:nvPr/>
              </p:nvSpPr>
              <p:spPr>
                <a:xfrm>
                  <a:off x="2808000" y="4069080"/>
                  <a:ext cx="2759040" cy="5180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Group 74"/>
              <p:cNvGrpSpPr/>
              <p:nvPr/>
            </p:nvGrpSpPr>
            <p:grpSpPr>
              <a:xfrm>
                <a:off x="5567400" y="4069080"/>
                <a:ext cx="3038400" cy="518040"/>
                <a:chOff x="5567400" y="4069080"/>
                <a:chExt cx="3038400" cy="518040"/>
              </a:xfrm>
            </p:grpSpPr>
            <p:sp>
              <p:nvSpPr>
                <p:cNvPr id="184" name="Rectangle 24"/>
                <p:cNvSpPr/>
                <p:nvPr/>
              </p:nvSpPr>
              <p:spPr>
                <a:xfrm>
                  <a:off x="5643360" y="4069080"/>
                  <a:ext cx="2886120" cy="51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Alteration of potential offender, including his/her family &amp; social environment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Rectangle 73"/>
                <p:cNvSpPr/>
                <p:nvPr/>
              </p:nvSpPr>
              <p:spPr>
                <a:xfrm>
                  <a:off x="5567400" y="4069080"/>
                  <a:ext cx="3038400" cy="5180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Group 76"/>
              <p:cNvGrpSpPr/>
              <p:nvPr/>
            </p:nvGrpSpPr>
            <p:grpSpPr>
              <a:xfrm>
                <a:off x="1375200" y="4587480"/>
                <a:ext cx="1432440" cy="414720"/>
                <a:chOff x="1375200" y="4587480"/>
                <a:chExt cx="1432440" cy="414720"/>
              </a:xfrm>
            </p:grpSpPr>
            <p:sp>
              <p:nvSpPr>
                <p:cNvPr id="187" name="Rectangle 25"/>
                <p:cNvSpPr/>
                <p:nvPr/>
              </p:nvSpPr>
              <p:spPr>
                <a:xfrm>
                  <a:off x="1451160" y="4587480"/>
                  <a:ext cx="128016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Philosophy: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Rectangle 75"/>
                <p:cNvSpPr/>
                <p:nvPr/>
              </p:nvSpPr>
              <p:spPr>
                <a:xfrm>
                  <a:off x="1375200" y="4587480"/>
                  <a:ext cx="143244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Group 78"/>
              <p:cNvGrpSpPr/>
              <p:nvPr/>
            </p:nvGrpSpPr>
            <p:grpSpPr>
              <a:xfrm>
                <a:off x="2808000" y="4587480"/>
                <a:ext cx="2759040" cy="414720"/>
                <a:chOff x="2808000" y="4587480"/>
                <a:chExt cx="2759040" cy="414720"/>
              </a:xfrm>
            </p:grpSpPr>
            <p:sp>
              <p:nvSpPr>
                <p:cNvPr id="190" name="Rectangle 26"/>
                <p:cNvSpPr/>
                <p:nvPr/>
              </p:nvSpPr>
              <p:spPr>
                <a:xfrm>
                  <a:off x="2883600" y="4587480"/>
                  <a:ext cx="260712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Pragmatic, realistic (manage risk) 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Rectangle 77"/>
                <p:cNvSpPr/>
                <p:nvPr/>
              </p:nvSpPr>
              <p:spPr>
                <a:xfrm>
                  <a:off x="2808000" y="4587480"/>
                  <a:ext cx="275904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Group 80"/>
              <p:cNvGrpSpPr/>
              <p:nvPr/>
            </p:nvGrpSpPr>
            <p:grpSpPr>
              <a:xfrm>
                <a:off x="5567400" y="4587480"/>
                <a:ext cx="3038400" cy="414720"/>
                <a:chOff x="5567400" y="4587480"/>
                <a:chExt cx="3038400" cy="414720"/>
              </a:xfrm>
            </p:grpSpPr>
            <p:sp>
              <p:nvSpPr>
                <p:cNvPr id="193" name="Rectangle 27"/>
                <p:cNvSpPr/>
                <p:nvPr/>
              </p:nvSpPr>
              <p:spPr>
                <a:xfrm>
                  <a:off x="5643360" y="4587480"/>
                  <a:ext cx="288612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Idealistic (improve lives, society)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Rectangle 79"/>
                <p:cNvSpPr/>
                <p:nvPr/>
              </p:nvSpPr>
              <p:spPr>
                <a:xfrm>
                  <a:off x="5567400" y="4587480"/>
                  <a:ext cx="303840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Group 82"/>
              <p:cNvGrpSpPr/>
              <p:nvPr/>
            </p:nvGrpSpPr>
            <p:grpSpPr>
              <a:xfrm>
                <a:off x="1375200" y="5002200"/>
                <a:ext cx="1432440" cy="414360"/>
                <a:chOff x="1375200" y="5002200"/>
                <a:chExt cx="1432440" cy="414360"/>
              </a:xfrm>
            </p:grpSpPr>
            <p:sp>
              <p:nvSpPr>
                <p:cNvPr id="196" name="Rectangle 28"/>
                <p:cNvSpPr/>
                <p:nvPr/>
              </p:nvSpPr>
              <p:spPr>
                <a:xfrm>
                  <a:off x="1451160" y="5002200"/>
                  <a:ext cx="128016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Major actors: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Rectangle 81"/>
                <p:cNvSpPr/>
                <p:nvPr/>
              </p:nvSpPr>
              <p:spPr>
                <a:xfrm>
                  <a:off x="1375200" y="5002200"/>
                  <a:ext cx="143244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Group 84"/>
              <p:cNvGrpSpPr/>
              <p:nvPr/>
            </p:nvGrpSpPr>
            <p:grpSpPr>
              <a:xfrm>
                <a:off x="2808000" y="5002200"/>
                <a:ext cx="2759040" cy="414360"/>
                <a:chOff x="2808000" y="5002200"/>
                <a:chExt cx="2759040" cy="414360"/>
              </a:xfrm>
            </p:grpSpPr>
            <p:sp>
              <p:nvSpPr>
                <p:cNvPr id="199" name="Rectangle 29"/>
                <p:cNvSpPr/>
                <p:nvPr/>
              </p:nvSpPr>
              <p:spPr>
                <a:xfrm>
                  <a:off x="2883600" y="5002200"/>
                  <a:ext cx="260712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Potential victims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Rectangle 83"/>
                <p:cNvSpPr/>
                <p:nvPr/>
              </p:nvSpPr>
              <p:spPr>
                <a:xfrm>
                  <a:off x="2808000" y="5002200"/>
                  <a:ext cx="275904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Group 86"/>
              <p:cNvGrpSpPr/>
              <p:nvPr/>
            </p:nvGrpSpPr>
            <p:grpSpPr>
              <a:xfrm>
                <a:off x="5567400" y="5002200"/>
                <a:ext cx="3038400" cy="414360"/>
                <a:chOff x="5567400" y="5002200"/>
                <a:chExt cx="3038400" cy="414360"/>
              </a:xfrm>
            </p:grpSpPr>
            <p:sp>
              <p:nvSpPr>
                <p:cNvPr id="202" name="Rectangle 30"/>
                <p:cNvSpPr/>
                <p:nvPr/>
              </p:nvSpPr>
              <p:spPr>
                <a:xfrm>
                  <a:off x="5643360" y="5002200"/>
                  <a:ext cx="288612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Government, communities, families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Rectangle 85"/>
                <p:cNvSpPr/>
                <p:nvPr/>
              </p:nvSpPr>
              <p:spPr>
                <a:xfrm>
                  <a:off x="5567400" y="5002200"/>
                  <a:ext cx="303840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Group 88"/>
              <p:cNvGrpSpPr/>
              <p:nvPr/>
            </p:nvGrpSpPr>
            <p:grpSpPr>
              <a:xfrm>
                <a:off x="1375200" y="5416920"/>
                <a:ext cx="1432440" cy="414360"/>
                <a:chOff x="1375200" y="5416920"/>
                <a:chExt cx="1432440" cy="414360"/>
              </a:xfrm>
            </p:grpSpPr>
            <p:sp>
              <p:nvSpPr>
                <p:cNvPr id="205" name="Rectangle 31"/>
                <p:cNvSpPr/>
                <p:nvPr/>
              </p:nvSpPr>
              <p:spPr>
                <a:xfrm>
                  <a:off x="1451160" y="5416920"/>
                  <a:ext cx="128016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Institutions: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Rectangle 87"/>
                <p:cNvSpPr/>
                <p:nvPr/>
              </p:nvSpPr>
              <p:spPr>
                <a:xfrm>
                  <a:off x="1375200" y="5416920"/>
                  <a:ext cx="143244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Group 90"/>
              <p:cNvGrpSpPr/>
              <p:nvPr/>
            </p:nvGrpSpPr>
            <p:grpSpPr>
              <a:xfrm>
                <a:off x="2808000" y="5416920"/>
                <a:ext cx="2759040" cy="414360"/>
                <a:chOff x="2808000" y="5416920"/>
                <a:chExt cx="2759040" cy="414360"/>
              </a:xfrm>
            </p:grpSpPr>
            <p:sp>
              <p:nvSpPr>
                <p:cNvPr id="208" name="Rectangle 32"/>
                <p:cNvSpPr/>
                <p:nvPr/>
              </p:nvSpPr>
              <p:spPr>
                <a:xfrm>
                  <a:off x="2883600" y="5416920"/>
                  <a:ext cx="260712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Place/Community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Rectangle 89"/>
                <p:cNvSpPr/>
                <p:nvPr/>
              </p:nvSpPr>
              <p:spPr>
                <a:xfrm>
                  <a:off x="2808000" y="5416920"/>
                  <a:ext cx="275904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Group 92"/>
              <p:cNvGrpSpPr/>
              <p:nvPr/>
            </p:nvGrpSpPr>
            <p:grpSpPr>
              <a:xfrm>
                <a:off x="5567400" y="5416920"/>
                <a:ext cx="3038400" cy="414360"/>
                <a:chOff x="5567400" y="5416920"/>
                <a:chExt cx="3038400" cy="414360"/>
              </a:xfrm>
            </p:grpSpPr>
            <p:sp>
              <p:nvSpPr>
                <p:cNvPr id="211" name="Rectangle 33"/>
                <p:cNvSpPr/>
                <p:nvPr/>
              </p:nvSpPr>
              <p:spPr>
                <a:xfrm>
                  <a:off x="5643360" y="5416920"/>
                  <a:ext cx="2886120" cy="41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Family, school, labour market, community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Rectangle 91"/>
                <p:cNvSpPr/>
                <p:nvPr/>
              </p:nvSpPr>
              <p:spPr>
                <a:xfrm>
                  <a:off x="5567400" y="5416920"/>
                  <a:ext cx="3038400" cy="414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Group 94"/>
              <p:cNvGrpSpPr/>
              <p:nvPr/>
            </p:nvGrpSpPr>
            <p:grpSpPr>
              <a:xfrm>
                <a:off x="1375200" y="5831280"/>
                <a:ext cx="1432440" cy="414720"/>
                <a:chOff x="1375200" y="5831280"/>
                <a:chExt cx="1432440" cy="414720"/>
              </a:xfrm>
            </p:grpSpPr>
            <p:sp>
              <p:nvSpPr>
                <p:cNvPr id="214" name="Rectangle 34"/>
                <p:cNvSpPr/>
                <p:nvPr/>
              </p:nvSpPr>
              <p:spPr>
                <a:xfrm>
                  <a:off x="1451160" y="5831280"/>
                  <a:ext cx="128016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Temporal scope: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Rectangle 93"/>
                <p:cNvSpPr/>
                <p:nvPr/>
              </p:nvSpPr>
              <p:spPr>
                <a:xfrm>
                  <a:off x="1375200" y="5831280"/>
                  <a:ext cx="143244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Group 96"/>
              <p:cNvGrpSpPr/>
              <p:nvPr/>
            </p:nvGrpSpPr>
            <p:grpSpPr>
              <a:xfrm>
                <a:off x="2808000" y="5831280"/>
                <a:ext cx="2759040" cy="414720"/>
                <a:chOff x="2808000" y="5831280"/>
                <a:chExt cx="2759040" cy="414720"/>
              </a:xfrm>
            </p:grpSpPr>
            <p:sp>
              <p:nvSpPr>
                <p:cNvPr id="217" name="Rectangle 35"/>
                <p:cNvSpPr/>
                <p:nvPr/>
              </p:nvSpPr>
              <p:spPr>
                <a:xfrm>
                  <a:off x="2883600" y="5831280"/>
                  <a:ext cx="260712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Short-term (temporary)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Rectangle 95"/>
                <p:cNvSpPr/>
                <p:nvPr/>
              </p:nvSpPr>
              <p:spPr>
                <a:xfrm>
                  <a:off x="2808000" y="5831280"/>
                  <a:ext cx="275904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Group 98"/>
              <p:cNvGrpSpPr/>
              <p:nvPr/>
            </p:nvGrpSpPr>
            <p:grpSpPr>
              <a:xfrm>
                <a:off x="5567400" y="5831280"/>
                <a:ext cx="3038400" cy="414720"/>
                <a:chOff x="5567400" y="5831280"/>
                <a:chExt cx="3038400" cy="414720"/>
              </a:xfrm>
            </p:grpSpPr>
            <p:sp>
              <p:nvSpPr>
                <p:cNvPr id="220" name="Rectangle 36"/>
                <p:cNvSpPr/>
                <p:nvPr/>
              </p:nvSpPr>
              <p:spPr>
                <a:xfrm>
                  <a:off x="5643360" y="5831280"/>
                  <a:ext cx="2886120" cy="41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eaeaea"/>
                      </a:solidFill>
                      <a:latin typeface="Comic Sans MS"/>
                      <a:ea typeface="Arial"/>
                    </a:rPr>
                    <a:t>Long-term (permanent)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Rectangle 97"/>
                <p:cNvSpPr/>
                <p:nvPr/>
              </p:nvSpPr>
              <p:spPr>
                <a:xfrm>
                  <a:off x="5567400" y="5831280"/>
                  <a:ext cx="3038400" cy="4147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2" name="Rectangle 100"/>
            <p:cNvSpPr/>
            <p:nvPr/>
          </p:nvSpPr>
          <p:spPr>
            <a:xfrm>
              <a:off x="1371600" y="1371600"/>
              <a:ext cx="7238520" cy="4876920"/>
            </a:xfrm>
            <a:prstGeom prst="rect">
              <a:avLst/>
            </a:prstGeom>
            <a:noFill/>
            <a:ln cap="sq"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7280" y="1844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rebuchet MS"/>
              </a:rPr>
              <a:t>Overvie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rebuchet MS"/>
              </a:rPr>
              <a:t>Theories of crime causation underlying SC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rebuchet MS"/>
              </a:rPr>
              <a:t>Definitions &amp; descrip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rebuchet MS"/>
              </a:rPr>
              <a:t>Situational vs. social development crime preven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rebuchet MS"/>
              </a:rPr>
              <a:t>Critiqu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aeaea"/>
                </a:solidFill>
                <a:latin typeface="Trebuchet MS"/>
              </a:rPr>
              <a:t>Field exercis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Overview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SCP involves the management, design, or manipulation of the immediate physical environmen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Primary objective: </a:t>
            </a:r>
            <a:r>
              <a:rPr b="0" lang="en-CA" sz="2000" spc="-1" strike="noStrike">
                <a:solidFill>
                  <a:srgbClr val="ff0000"/>
                </a:solidFill>
                <a:latin typeface="Trebuchet MS"/>
              </a:rPr>
              <a:t>reduce the opportunity</a:t>
            </a: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 for criminal activit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Opportunity for reducing crime can be pursued by: (i) “organizing” the immediate physical environment or (ii) organizing individuals (e.g., Neighbourhood Watch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eaeaea"/>
                </a:solidFill>
                <a:latin typeface="Trebuchet MS"/>
              </a:rPr>
              <a:t>Critiques: only addresses symptoms (not root causes); does not prevent crime, may only deflect/displace i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Theoretical Assumptions of Crime Causation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7280" y="1915920"/>
            <a:ext cx="7772400" cy="47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Routine Activity Theory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– Every crime involves three elements: an offender, a target, &amp; an insufficiently guarded environment (thus, must address one or all three)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Rational Choice Theory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- Criminals make rational choices (not randomly) &amp; thus can be deterred from crime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Crime Pattern Theory 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– There exists spatial &amp; temporal </a:t>
            </a:r>
            <a:r>
              <a:rPr b="0" lang="en-CA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paths that bring offenders &amp; victims together at certain location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Offender Search Theory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- Crime is opportunistic; offenders respond to cues given out by the environment (thus, must focus on reducing opportunities)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Broken Windows Theory</a:t>
            </a: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– Disorder &amp; incivility problems lead to more serious crime in a neighborhood</a:t>
            </a:r>
            <a:r>
              <a:rPr b="0" lang="en-US" sz="20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Routine Activity Theory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Seeks to explain the supply of criminal opportunities in a particular place &amp; tim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Identifies three minimal elements that must be present for a predatory crime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eaeaea"/>
              </a:buClr>
              <a:buFont typeface="Trebuchet M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a likely offender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eaeaea"/>
              </a:buClr>
              <a:buFont typeface="Trebuchet M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a suitable targe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eaeaea"/>
              </a:buClr>
              <a:buFont typeface="Trebuchet M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insufficiently guarded environmen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As such, prevention should address the convergence of these three element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Routine Activity Theory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4" name="Picture 3" descr="Figure 2.1.jpg"/>
          <p:cNvPicPr/>
          <p:nvPr/>
        </p:nvPicPr>
        <p:blipFill>
          <a:blip r:embed="rId1"/>
          <a:stretch/>
        </p:blipFill>
        <p:spPr>
          <a:xfrm>
            <a:off x="3132000" y="1916280"/>
            <a:ext cx="3409920" cy="3638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Rational Choice Theory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456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Theory of human decision-mak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Criminals make rational choices (&amp; not randomly, therefore uncontrollably) &amp; thus can be deterred from crim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The potential criminal is seen as a self-maximizing decision-maker who  calculates  advantages &amp; disadvantages associated with specific criminal act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Therefore, prevention is aimed at altering the decision-making process to increase the risks/effort or decrease potential rewards of offend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Offender Search Theory</a:t>
            </a: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Most (property) crime is opportunistic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Opportunistic behavior is provoked by cues given out by the environment (including specific design features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These “releaser cues” stimulate the release of otherwise inhibited behavior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Releaser cues (e.g., specific design features, low informal social control, etc.) communicate to a potential offender that acts of vandalism or crime are acceptable or attainable in certain situations/environment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54936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66"/>
                </a:solidFill>
                <a:latin typeface="Trebuchet MS"/>
              </a:rPr>
              <a:t>Crime Pattern Theory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Environmental Criminology</a:t>
            </a:r>
            <a:r>
              <a:rPr b="0" lang="en-CA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 is concerned with how environmental or contextual factors (time, space, physical properties) can influence the decision-making process of the criminal offender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Analyzes the “location of crimes, characteristics of those locations, the movement paths that bring offenders &amp; victims together at those locations, &amp; people’s perception of crime  locations” (Brantingham &amp; Brantingham, 1981, 8)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Criminal acts do not occur randomly in time or space, but are influenced by the routine movements of offenders &amp; victim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eaeaea"/>
                </a:solidFill>
                <a:latin typeface="Trebuchet MS"/>
                <a:ea typeface="Times New Roman"/>
              </a:rPr>
              <a:t>As such, criminal victimization can be predicted &amp; prevente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20:39:15Z</dcterms:created>
  <dc:creator>Stephen Schneider</dc:creator>
  <dc:description/>
  <dc:language>en-US</dc:language>
  <cp:lastModifiedBy>Lindens</cp:lastModifiedBy>
  <dcterms:modified xsi:type="dcterms:W3CDTF">2014-04-28T13:30:17Z</dcterms:modified>
  <cp:revision>63</cp:revision>
  <dc:subject/>
  <dc:title>JUS 500:  THE THEORY AND PRACTICE OF CRIME PREVENTION</dc:title>
</cp:coreProperties>
</file>