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8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.wmf" ContentType="image/x-wmf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45C9-F833-42A6-A88E-418289255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6D7E-C8C3-4317-A992-836D39C08E3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51DA-8404-4049-B3C4-12C5D540632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7D46-C1E7-45D9-8AD0-3BA703329B0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97F5-4697-41C8-BFF9-839D28F9E10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8271-6DA1-421B-B4C3-2E65DD46941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EE6D-B24F-475E-835C-D0CABED3E68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10FC-CB96-4ED8-A59D-E11CF23BD98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7957-7D79-4621-AC7C-EEEEAFEAEDD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C2BB-C8B7-48B8-A229-0344B8D3617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6AD1-07C8-40A4-B4F3-30FFE94D806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5299-EF96-48E8-A978-AE700BAE0C1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F5BF-ED03-4175-BB11-6AB6D537C91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9C95-B242-4F71-B8F9-97268DDD142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8D51-F9BA-4261-BF9E-99EC4F5A924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1633-8B85-42FC-B798-E6DE274153F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8010-1A1E-4FA2-9000-9259F4E53EA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6E69-7E99-4102-A47F-478D88A358B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C4EA-18A4-4960-8D7F-628F9B45367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7BE0-D710-4401-850E-668620AAFF8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8553-AE29-4FA2-88B3-9C721DC9B42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792F-C12D-4741-9B6D-93C73A81DD3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966F-9D40-4CB3-B875-3FD166F3437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6065-219C-4330-AD2E-62CB0872452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4A6D-D43C-4D49-BB51-DC3BE8FDE2D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0F5A-29E1-4A72-99F7-BE025CA8B40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B7F-7012-47D1-A621-302819FE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DFB-6474-4AC0-B6B8-E50865AB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8DF-FA5C-4AD7-BF3F-B8F81FE6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8AB-0EA3-4536-939B-4418A144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F3B1-F6DA-4A79-A8B5-EC687832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EE26-A18F-474E-B41C-DDB24857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3B57-522A-4BFA-81DC-16DD3B90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04DC-894C-4F8F-9C82-44874E97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637F-6127-4C51-9F2B-890F1711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BD33-63E9-4809-A945-424F8C74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5F0C-C083-45AD-8920-7E823515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7EB-F21F-4699-B2D2-5A014002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1547-8751-48EF-A297-C6C7BA4E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EFBD-814E-4186-9368-500F84C3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F04A-3D65-47AA-B079-C97849B3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3C74-2220-406A-969B-8B214182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BF06-9A2C-474E-A944-FC6A4299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BD1-2EC1-4564-94F4-9E876971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646-5160-4288-B7A3-FC20A609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D90-29A0-4C44-8243-FEC8F802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358-7236-4B4B-A838-9857C355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1F3-987D-4599-B878-E9C43284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6F2-1E8B-440E-9891-1882C188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935-2558-4E64-A857-EB9AAD3A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2000"/>
            <a:ext cx="190512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8240"/>
            <a:ext cx="289548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356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D2E3-EC0D-4024-A0E6-3625F351E79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3"/>
          <p:cNvGrpSpPr/>
          <p:nvPr/>
        </p:nvGrpSpPr>
        <p:grpSpPr>
          <a:xfrm>
            <a:off x="228600" y="1981080"/>
            <a:ext cx="7391520" cy="320760"/>
            <a:chOff x="228600" y="1981080"/>
            <a:chExt cx="7391520" cy="320760"/>
          </a:xfrm>
        </p:grpSpPr>
        <p:sp>
          <p:nvSpPr>
            <p:cNvPr id="10" name="AutoShape 11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228600" y="1981080"/>
              <a:ext cx="395280" cy="3207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49" h="202">
                  <a:moveTo>
                    <a:pt x="124" y="0"/>
                  </a:moveTo>
                  <a:lnTo>
                    <a:pt x="112" y="1"/>
                  </a:lnTo>
                  <a:lnTo>
                    <a:pt x="99" y="2"/>
                  </a:lnTo>
                  <a:lnTo>
                    <a:pt x="87" y="5"/>
                  </a:lnTo>
                  <a:lnTo>
                    <a:pt x="76" y="8"/>
                  </a:lnTo>
                  <a:lnTo>
                    <a:pt x="65" y="12"/>
                  </a:lnTo>
                  <a:lnTo>
                    <a:pt x="55" y="17"/>
                  </a:lnTo>
                  <a:lnTo>
                    <a:pt x="45" y="23"/>
                  </a:lnTo>
                  <a:lnTo>
                    <a:pt x="37" y="29"/>
                  </a:lnTo>
                  <a:lnTo>
                    <a:pt x="29" y="37"/>
                  </a:lnTo>
                  <a:lnTo>
                    <a:pt x="22" y="44"/>
                  </a:lnTo>
                  <a:lnTo>
                    <a:pt x="15" y="52"/>
                  </a:lnTo>
                  <a:lnTo>
                    <a:pt x="10" y="61"/>
                  </a:lnTo>
                  <a:lnTo>
                    <a:pt x="6" y="70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10"/>
                  </a:lnTo>
                  <a:lnTo>
                    <a:pt x="2" y="120"/>
                  </a:lnTo>
                  <a:lnTo>
                    <a:pt x="6" y="130"/>
                  </a:lnTo>
                  <a:lnTo>
                    <a:pt x="10" y="139"/>
                  </a:lnTo>
                  <a:lnTo>
                    <a:pt x="15" y="148"/>
                  </a:lnTo>
                  <a:lnTo>
                    <a:pt x="22" y="157"/>
                  </a:lnTo>
                  <a:lnTo>
                    <a:pt x="29" y="165"/>
                  </a:lnTo>
                  <a:lnTo>
                    <a:pt x="37" y="172"/>
                  </a:lnTo>
                  <a:lnTo>
                    <a:pt x="45" y="178"/>
                  </a:lnTo>
                  <a:lnTo>
                    <a:pt x="55" y="184"/>
                  </a:lnTo>
                  <a:lnTo>
                    <a:pt x="65" y="189"/>
                  </a:lnTo>
                  <a:lnTo>
                    <a:pt x="76" y="193"/>
                  </a:lnTo>
                  <a:lnTo>
                    <a:pt x="87" y="197"/>
                  </a:lnTo>
                  <a:lnTo>
                    <a:pt x="99" y="199"/>
                  </a:lnTo>
                  <a:lnTo>
                    <a:pt x="112" y="200"/>
                  </a:lnTo>
                  <a:lnTo>
                    <a:pt x="124" y="201"/>
                  </a:lnTo>
                  <a:lnTo>
                    <a:pt x="248" y="201"/>
                  </a:lnTo>
                  <a:lnTo>
                    <a:pt x="248" y="0"/>
                  </a:lnTo>
                  <a:lnTo>
                    <a:pt x="124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499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3632040" y="4889520"/>
            <a:ext cx="4878720" cy="320760"/>
            <a:chOff x="3632040" y="4889520"/>
            <a:chExt cx="4878720" cy="320760"/>
          </a:xfrm>
        </p:grpSpPr>
        <p:sp>
          <p:nvSpPr>
            <p:cNvPr id="51" name="AutoShape 5"/>
            <p:cNvSpPr/>
            <p:nvPr/>
          </p:nvSpPr>
          <p:spPr>
            <a:xfrm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48680" y="4889520"/>
              <a:ext cx="262080" cy="3207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65" h="202">
                  <a:moveTo>
                    <a:pt x="82" y="0"/>
                  </a:moveTo>
                  <a:lnTo>
                    <a:pt x="91" y="1"/>
                  </a:lnTo>
                  <a:lnTo>
                    <a:pt x="98" y="2"/>
                  </a:lnTo>
                  <a:lnTo>
                    <a:pt x="106" y="5"/>
                  </a:lnTo>
                  <a:lnTo>
                    <a:pt x="114" y="8"/>
                  </a:lnTo>
                  <a:lnTo>
                    <a:pt x="121" y="12"/>
                  </a:lnTo>
                  <a:lnTo>
                    <a:pt x="128" y="17"/>
                  </a:lnTo>
                  <a:lnTo>
                    <a:pt x="134" y="23"/>
                  </a:lnTo>
                  <a:lnTo>
                    <a:pt x="140" y="29"/>
                  </a:lnTo>
                  <a:lnTo>
                    <a:pt x="145" y="37"/>
                  </a:lnTo>
                  <a:lnTo>
                    <a:pt x="150" y="44"/>
                  </a:lnTo>
                  <a:lnTo>
                    <a:pt x="154" y="52"/>
                  </a:lnTo>
                  <a:lnTo>
                    <a:pt x="158" y="61"/>
                  </a:lnTo>
                  <a:lnTo>
                    <a:pt x="160" y="70"/>
                  </a:lnTo>
                  <a:lnTo>
                    <a:pt x="162" y="80"/>
                  </a:lnTo>
                  <a:lnTo>
                    <a:pt x="163" y="90"/>
                  </a:lnTo>
                  <a:lnTo>
                    <a:pt x="164" y="100"/>
                  </a:lnTo>
                  <a:lnTo>
                    <a:pt x="163" y="110"/>
                  </a:lnTo>
                  <a:lnTo>
                    <a:pt x="162" y="120"/>
                  </a:lnTo>
                  <a:lnTo>
                    <a:pt x="160" y="130"/>
                  </a:lnTo>
                  <a:lnTo>
                    <a:pt x="158" y="139"/>
                  </a:lnTo>
                  <a:lnTo>
                    <a:pt x="154" y="148"/>
                  </a:lnTo>
                  <a:lnTo>
                    <a:pt x="150" y="157"/>
                  </a:lnTo>
                  <a:lnTo>
                    <a:pt x="145" y="165"/>
                  </a:lnTo>
                  <a:lnTo>
                    <a:pt x="140" y="172"/>
                  </a:lnTo>
                  <a:lnTo>
                    <a:pt x="134" y="178"/>
                  </a:lnTo>
                  <a:lnTo>
                    <a:pt x="128" y="184"/>
                  </a:lnTo>
                  <a:lnTo>
                    <a:pt x="121" y="189"/>
                  </a:lnTo>
                  <a:lnTo>
                    <a:pt x="114" y="193"/>
                  </a:lnTo>
                  <a:lnTo>
                    <a:pt x="106" y="197"/>
                  </a:lnTo>
                  <a:lnTo>
                    <a:pt x="98" y="199"/>
                  </a:lnTo>
                  <a:lnTo>
                    <a:pt x="91" y="200"/>
                  </a:lnTo>
                  <a:lnTo>
                    <a:pt x="82" y="201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82" y="0"/>
                  </a:lnTo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2000"/>
            <a:ext cx="190512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2000"/>
            <a:ext cx="3279960" cy="30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9040"/>
            <a:ext cx="587520" cy="48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6DEF-7C88-431F-B928-5A2DFF6F61E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3060720" cy="3668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C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rime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P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revention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T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hrough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E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nvironmental </a:t>
            </a:r>
            <a:r>
              <a:rPr b="1" lang="en-US" sz="4000" spc="-1" strike="noStrike">
                <a:solidFill>
                  <a:srgbClr val="ff3300"/>
                </a:solidFill>
                <a:latin typeface="AvantGarde"/>
              </a:rPr>
              <a:t>D</a:t>
            </a:r>
            <a:r>
              <a:rPr b="1" lang="en-US" sz="4000" spc="-1" strike="noStrike">
                <a:solidFill>
                  <a:srgbClr val="003366"/>
                </a:solidFill>
                <a:latin typeface="AvantGarde"/>
              </a:rPr>
              <a:t>esign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16320" y="3573360"/>
            <a:ext cx="317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Chapter 2 i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Crime Preventio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 Black"/>
              </a:rPr>
              <a:t>Theory &amp; Practi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Hierarchy of Space 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(Spatial Hierarchy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design of a residential environment should help identify ownership by delineating private space from public space through real or symbolic boundar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patial hierarchy can be achieved by creating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real boundaries through fenci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symbolic boundaries such as landscaping or differing the grade or paving stone colours of private space from that of public space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7432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erritoriality/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Defensible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697068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Design should help foster people’s vigilance &amp; ownership over their homes, public space, &amp; the neighbourhood as a whol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Territoriality in public &amp; semi-public areas can be enhanced b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providing a clear definition of “controlled” spac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designing clearly-marked transitional zones for people moving from public to private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ttracting local residents to use public &amp; semi-private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Providing common activity areas helps to stimulate social interaction, which may lead to greater social cohesion &amp; informal social control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095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erritoriality/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Defensible 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697068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7061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Activity Suppo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design of public space should encourage the intended use of this space by residents and legitimate us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is can be achieved by designing public or semi-public spaces to include parks, playgrounds, benches, lighting, or promenade-style sidewalk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tivity support is important for increasing the surveillance opportunities of &amp; fostering territoriality among local resid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30243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Ima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Ensuring that a building or area is clean, well-maintained, &amp; graffiti-free prevents a perception of neglect &amp; vulnerability by potential offender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It can also instil in residents a greater pride in their neighbourhood, thereby promoting community ownership &amp; territor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35240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PTED Strategies, Concepts, Princip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Location/Surround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design or location decision should take into consideration the surrounding environment &amp; user group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potential negative impact on a site by the surrounding environment should be considered, primarily by avoiding the use of the site by incompatible groups (e.g., don’t locate tavern or seniors home next to high schoo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cond Generation CPT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ritics charge that CPTED proponents give too much weight to the role of the environment in influencing crime &amp; criminal behavior; social &amp; demographic variables are critical in maximizing efficacy of safe desig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CA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Gen CPTED focuses on building local social capital by fostering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local social cohe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onnectivity among neighborhood resi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unique local community cultu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social stabilizers” that promote all of the above while minimizing destabilizing activities that can promote crime &amp; disorder (e.g., bars, pawn shops, et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on CPTED Strategies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maximize residents’ opportunities for surveillance of dwellings &amp; public spa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learly define the boundaries between public &amp; private spac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encourage a sense of ownership, responsibility &amp; territoriality among resi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limit the number of access &amp; exit points &amp; routes through a neighbourhoo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provide adequate interior &amp; exterior lighting, stressing bright white ligh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void any building design or ground-level planting that may provide concealmen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keep the surrounding area clean, well-maintained, graffiti-free &amp; attractiv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consider the security implications of a site before locating ther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stress a partnership approach to CP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incorporate CPTED into a comprehensive crime prevention program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3123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CPTED Case Studie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3348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PTED Overvie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nteceden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PTED concepts/strateg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Second generation CP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ommon CPTED Strateg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Case stud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3139920" y="2362320"/>
            <a:ext cx="3548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ingwood Village (Burnaby, B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597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an Harrison Community Complex (Toronto, ON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4190760" cy="2801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4800600" y="3065400"/>
            <a:ext cx="4114800" cy="27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457200" y="2514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CA" sz="2400" spc="-1" strike="noStrike">
                <a:solidFill>
                  <a:srgbClr val="003366"/>
                </a:solidFill>
                <a:latin typeface="Arial Narrow"/>
              </a:rPr>
              <a:t>Befor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876920" y="2514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CA" sz="2400" spc="-1" strike="noStrike">
                <a:solidFill>
                  <a:srgbClr val="003366"/>
                </a:solidFill>
                <a:latin typeface="Arial Narrow"/>
              </a:rPr>
              <a:t>After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lawney (Mississuaga, Ontario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2335320" cy="3733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3733920" y="2971800"/>
            <a:ext cx="4495680" cy="3013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11430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 Narrow"/>
              </a:rPr>
              <a:t>Modular Lotting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8006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 Narrow"/>
              </a:rPr>
              <a:t>Trelawne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mplain Place (Vancouve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219320" y="2428920"/>
            <a:ext cx="6949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mplain Place (Vancouve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PTED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CPTED attempts to prevent crime in two basic way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1)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3300"/>
                </a:solidFill>
                <a:latin typeface="Arial"/>
              </a:rPr>
              <a:t>directly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to reduce crime by restricting access to property &amp; removing criminal opportunities. (e.g., maximizing residents’ opportunities for surveillance, restricting access to property, increasing security, removing valuables, etc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.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2)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CA" sz="2000" spc="-1" strike="noStrike">
                <a:solidFill>
                  <a:srgbClr val="ff3300"/>
                </a:solidFill>
                <a:latin typeface="Arial"/>
              </a:rPr>
              <a:t>indirectly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to reduce crime, fear, &amp; related problems by influencing the behaviour of residents &amp; other legitimate users of that space.</a:t>
            </a: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tece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Jane Jacob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lower neighborhood crime rates are a function of design that provides increased (natural) surveillance opportunities to legitimate residents &amp; pedestri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hus, safe design maximizes strategies that draw “eyes &amp; ears” on the stre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tece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Oscar Newman’s Defensible Space theor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physical environment could be designed to release the latent sense of “territoriality” among inhabi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his would translate into residents’ responsibility for preserving a safe, clean, &amp; well-maintained liv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PTED Concepts/Strateg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Natural Surveilla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ccess Contro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Target Hard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Spatial Hierarc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Territoriality/Defensibl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Activity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Location/Surrounding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Natural </a:t>
            </a: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Surveilla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9786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afe design should maximize the ability of users to spot suspicious people &amp; activities during their daily activiti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Natural surveillance opportunities can be enhanced by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orienting windows to entry ways, vulnerable points or public spa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designing landscapes that allow unobstructed views of surrounding are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improving visibility with lighting, transparent building materials, or white paint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3366"/>
                </a:solidFill>
                <a:latin typeface="Arial"/>
              </a:rPr>
              <a:t>avoiding the creation of entrapment are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Artificial surveillance (e.g., CCT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Intentional surveillance (security guards, citizen patrol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5" descr="http://www.lancastercsc.org/images/Natural_Surveillance_House_Bad.gif"/>
          <p:cNvPicPr/>
          <p:nvPr/>
        </p:nvPicPr>
        <p:blipFill>
          <a:blip r:embed="rId1"/>
          <a:stretch/>
        </p:blipFill>
        <p:spPr>
          <a:xfrm>
            <a:off x="4427640" y="333360"/>
            <a:ext cx="42480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980640"/>
            <a:ext cx="8001000" cy="9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Access Contro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545240" cy="41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 safe design should control access to a site, limiting unnecessary traffic &amp; deterring offenders from ente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cess control sends a message to potential offenders that they are at greater risk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ccess control can be achieved by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ensuring entrances are clearly defined, well lit, &amp; overlooked by window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installing security hardwa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designing streets to prevent a quick &amp; easy entry &amp; exi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6" descr="https://encrypted-tbn3.gstatic.com/images?q=tbn:ANd9GcQq0ClqvvVRTk2Ay0JEi2jbe72F1V5z1IhOEwAUy29m4WbyBGdYsAbRnTu-"/>
          <p:cNvPicPr/>
          <p:nvPr/>
        </p:nvPicPr>
        <p:blipFill>
          <a:blip r:embed="rId1"/>
          <a:stretch/>
        </p:blipFill>
        <p:spPr>
          <a:xfrm>
            <a:off x="5364000" y="4762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3300"/>
                </a:solidFill>
                <a:latin typeface="Arial"/>
              </a:rPr>
              <a:t>Target Hardeni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he use of security devices &amp; hardware to lessen the vulnerability of potential targets to crime &amp; nuisanc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Targets can be made more impenetrable to offenders through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security hardwar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fortified doorfram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gates &amp; fenc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5" descr="http://i434.photobucket.com/albums/qq66/TKPNPodcast/afe8.jpg"/>
          <p:cNvPicPr/>
          <p:nvPr/>
        </p:nvPicPr>
        <p:blipFill>
          <a:blip r:embed="rId1"/>
          <a:stretch/>
        </p:blipFill>
        <p:spPr>
          <a:xfrm>
            <a:off x="5580000" y="2602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4:02:49Z</dcterms:created>
  <dc:creator>Steve Schneider</dc:creator>
  <dc:description/>
  <dc:language>en-US</dc:language>
  <cp:lastModifiedBy>Lindens</cp:lastModifiedBy>
  <dcterms:modified xsi:type="dcterms:W3CDTF">2014-04-28T14:24:49Z</dcterms:modified>
  <cp:revision>46</cp:revision>
  <dc:subject/>
  <dc:title>Researching Organized Crime for Policy Purposes: Challenges, Critiques, and Recommendations</dc:title>
</cp:coreProperties>
</file>