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50FA-EDEB-44E1-9FB5-9B0A6AD56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BDE7-30CE-40C1-95F6-3D6595D09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9BD-0D5F-4FEC-9A41-DB3F950B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250B-97CC-466D-9E7C-5E2170E9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838D-8A83-4DE6-9397-F6CDCA81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D55C-6820-439D-B4E7-CD1E2106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1DA-9A72-458D-84BC-F83A3379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3A83-F0F6-4E5D-AFDC-FB678EF8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30A-A2D4-4AB5-9D91-722E2B4D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41D-6EAC-4767-B706-63D415E7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6E6C-541E-4F5B-A9B9-8063EBCB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5A0-8B1E-439A-8AD9-F4EBFB49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CF7-2B7F-4995-9208-39A22CB9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BEC-169A-46F4-A907-23B6BEE6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D361-F6BA-4A3B-A63D-D6136DECD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Lean Eve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6324480" y="4495680"/>
            <a:ext cx="201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d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eve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team members with as much information as possible about the  target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formation to become familiar with the process before the event begin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for analysis must be current and obtain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the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measurement and observ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supplied before the event 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s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alyze the process or make deci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ck of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add Char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ck off initiated by a senior 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linkage between the event and strategic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organization’s commitment to the eff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upcoming steps of event and procedure for the process walk-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933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695"/>
          <p:cNvSpPr/>
          <p:nvPr/>
        </p:nvSpPr>
        <p:spPr>
          <a:xfrm>
            <a:off x="2514600" y="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Char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697"/>
          <p:cNvSpPr/>
          <p:nvPr/>
        </p:nvSpPr>
        <p:spPr>
          <a:xfrm>
            <a:off x="1080" y="661356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11"/>
          <p:cNvGraphicFramePr/>
          <p:nvPr/>
        </p:nvGraphicFramePr>
        <p:xfrm>
          <a:off x="228600" y="838080"/>
          <a:ext cx="87631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7631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13"/>
          <p:cNvSpPr/>
          <p:nvPr/>
        </p:nvSpPr>
        <p:spPr>
          <a:xfrm>
            <a:off x="154440" y="6643800"/>
            <a:ext cx="3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uct Ev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target area (Gemb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Figure 12"/>
          <p:cNvPicPr/>
          <p:nvPr/>
        </p:nvPicPr>
        <p:blipFill>
          <a:blip r:embed="rId1"/>
          <a:stretch/>
        </p:blipFill>
        <p:spPr>
          <a:xfrm>
            <a:off x="380880" y="3581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19-1968_IMG"/>
          <p:cNvPicPr/>
          <p:nvPr/>
        </p:nvPicPr>
        <p:blipFill>
          <a:blip r:embed="rId2"/>
          <a:stretch/>
        </p:blipFill>
        <p:spPr>
          <a:xfrm>
            <a:off x="4114800" y="2057400"/>
            <a:ext cx="467352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457200" y="762120"/>
            <a:ext cx="358128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eam into two groups: one to ask questions, other to record answ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visits area designated for improvement, walks through process step-by-step and documents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both physical and information flo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119-1985_IMG"/>
          <p:cNvPicPr/>
          <p:nvPr/>
        </p:nvPicPr>
        <p:blipFill>
          <a:blip r:embed="rId1"/>
          <a:stretch/>
        </p:blipFill>
        <p:spPr>
          <a:xfrm>
            <a:off x="3645000" y="2828880"/>
            <a:ext cx="5029200" cy="361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33560" y="-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th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119-1988_IMG"/>
          <p:cNvPicPr/>
          <p:nvPr/>
        </p:nvPicPr>
        <p:blipFill>
          <a:blip r:embed="rId2"/>
          <a:stretch/>
        </p:blipFill>
        <p:spPr>
          <a:xfrm>
            <a:off x="266760" y="3276720"/>
            <a:ext cx="3543120" cy="2396880"/>
          </a:xfrm>
          <a:prstGeom prst="rect">
            <a:avLst/>
          </a:prstGeom>
          <a:ln w="0">
            <a:noFill/>
          </a:ln>
        </p:spPr>
      </p:pic>
      <p:sp>
        <p:nvSpPr>
          <p:cNvPr id="84" name="Bent Arrow 6"/>
          <p:cNvSpPr/>
          <p:nvPr/>
        </p:nvSpPr>
        <p:spPr>
          <a:xfrm flipH="1" rot="10800000">
            <a:off x="1981080" y="5466960"/>
            <a:ext cx="1371600" cy="800280"/>
          </a:xfrm>
          <a:custGeom>
            <a:avLst/>
            <a:gdLst/>
            <a:ahLst/>
            <a:rect l="l" t="t" r="r" b="b"/>
            <a:pathLst>
              <a:path w="1371600" h="800100">
                <a:moveTo>
                  <a:pt x="0" y="800100"/>
                </a:moveTo>
                <a:lnTo>
                  <a:pt x="0" y="450056"/>
                </a:lnTo>
                <a:cubicBezTo>
                  <a:pt x="0" y="256732"/>
                  <a:pt x="156720" y="100012"/>
                  <a:pt x="350044" y="100012"/>
                </a:cubicBezTo>
                <a:lnTo>
                  <a:pt x="1171575" y="100013"/>
                </a:lnTo>
                <a:lnTo>
                  <a:pt x="1171575" y="0"/>
                </a:lnTo>
                <a:lnTo>
                  <a:pt x="1371600" y="200025"/>
                </a:lnTo>
                <a:lnTo>
                  <a:pt x="1171575" y="400050"/>
                </a:lnTo>
                <a:lnTo>
                  <a:pt x="1171575" y="300038"/>
                </a:lnTo>
                <a:lnTo>
                  <a:pt x="350044" y="300038"/>
                </a:lnTo>
                <a:cubicBezTo>
                  <a:pt x="267191" y="300038"/>
                  <a:pt x="200025" y="367204"/>
                  <a:pt x="200025" y="450057"/>
                </a:cubicBezTo>
                <a:lnTo>
                  <a:pt x="200025" y="800100"/>
                </a:lnTo>
                <a:lnTo>
                  <a:pt x="0" y="80010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4876920" y="12193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data to value stream maps, process maps, time observation sheets, standard work shee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on the “war room” wa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119-1970_IMG"/>
          <p:cNvPicPr/>
          <p:nvPr/>
        </p:nvPicPr>
        <p:blipFill>
          <a:blip r:embed="rId3"/>
          <a:stretch/>
        </p:blipFill>
        <p:spPr>
          <a:xfrm>
            <a:off x="228600" y="457200"/>
            <a:ext cx="2946240" cy="2209680"/>
          </a:xfrm>
          <a:prstGeom prst="rect">
            <a:avLst/>
          </a:prstGeom>
          <a:ln w="0">
            <a:noFill/>
          </a:ln>
        </p:spPr>
      </p:pic>
      <p:sp>
        <p:nvSpPr>
          <p:cNvPr id="87" name="Down Arrow 1"/>
          <p:cNvSpPr/>
          <p:nvPr/>
        </p:nvSpPr>
        <p:spPr>
          <a:xfrm>
            <a:off x="1320840" y="2486160"/>
            <a:ext cx="380880" cy="68580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119-1954_IMG"/>
          <p:cNvPicPr/>
          <p:nvPr/>
        </p:nvPicPr>
        <p:blipFill>
          <a:blip r:embed="rId1"/>
          <a:stretch/>
        </p:blipFill>
        <p:spPr>
          <a:xfrm>
            <a:off x="1828800" y="152280"/>
            <a:ext cx="4775040" cy="3581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533520" y="3962520"/>
            <a:ext cx="822960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 ste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day: Completely document and map the proc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equent days: Identify wastes and opportunities, generate ideas, begin to implement lean tools, verify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 day: tie up loose ends, verify and quantify results, develop standard work methods, give final pres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34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team member particip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tions—team members introduce sel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ives—what the team was trying to accompl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uation before event—problems and opportunitie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data and process steps before improve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mplishments—changes implemented during even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s that eliminated non-value-added: implementation of lean tools—standard work, kanban, mistake-proofing, quick changeover, visual control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uation after event—what the new process looks like and new standard work for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versus objective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46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ay if only achieved, say, 30% improvement when objective was 50%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ment to-do list (parking lot)—everything the team was not able to accomplish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46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next steps, who responsible, expected results and completion da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 the presentation is attended by all senior manag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4d"/>
                </a:solidFill>
                <a:latin typeface="Times New Roman"/>
              </a:rPr>
              <a:t>To Be 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Cart in Soiled Utility Room.JPG"/>
          <p:cNvPicPr/>
          <p:nvPr/>
        </p:nvPicPr>
        <p:blipFill>
          <a:blip r:embed="rId1"/>
          <a:stretch/>
        </p:blipFill>
        <p:spPr>
          <a:xfrm>
            <a:off x="5410080" y="5410080"/>
            <a:ext cx="1727280" cy="12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152280" y="914400"/>
          <a:ext cx="8839440" cy="2662200"/>
        </p:xfrm>
        <a:graphic>
          <a:graphicData uri="http://schemas.openxmlformats.org/drawingml/2006/table">
            <a:tbl>
              <a:tblPr/>
              <a:tblGrid>
                <a:gridCol w="4778640"/>
                <a:gridCol w="2307960"/>
                <a:gridCol w="175284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 communication link between Soiled/Clean Rooms and S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iting on appro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d, J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rmine if OR Room 8 Trays are Trauma Onl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n OR Ortho Team and SST’s on OR Room Std Work and OR Room 8 Kanban/Std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nesday 3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men, Jose, Greg, Debb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lement OR Ortho Team on OR Room Std Work and OR Room 8 Kanban/Std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day 3/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, SRP, Gr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52280" y="4191120"/>
          <a:ext cx="5029200" cy="2225520"/>
        </p:xfrm>
        <a:graphic>
          <a:graphicData uri="http://schemas.openxmlformats.org/drawingml/2006/table">
            <a:tbl>
              <a:tblPr/>
              <a:tblGrid>
                <a:gridCol w="4114800"/>
                <a:gridCol w="9144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i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S/Std Work Opex Tray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 Work -Preference Cards (by svc 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DI – Tray/Instrument Pho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S - Soiled Utility 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nban/Std Work – Case 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pic>
        <p:nvPicPr>
          <p:cNvPr id="98" name="Picture 5" descr="DSC00393.JPG"/>
          <p:cNvPicPr/>
          <p:nvPr/>
        </p:nvPicPr>
        <p:blipFill>
          <a:blip r:embed="rId2"/>
          <a:stretch/>
        </p:blipFill>
        <p:spPr>
          <a:xfrm>
            <a:off x="7238880" y="5410080"/>
            <a:ext cx="1727280" cy="129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DSC00407.JPG"/>
          <p:cNvPicPr/>
          <p:nvPr/>
        </p:nvPicPr>
        <p:blipFill>
          <a:blip r:embed="rId3"/>
          <a:stretch/>
        </p:blipFill>
        <p:spPr>
          <a:xfrm>
            <a:off x="6324480" y="4038480"/>
            <a:ext cx="1752840" cy="1314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0" y="66294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re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effort dedicated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emen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n tools and concepts in a targeted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process “insiders”, plus anyone else who has something to offer—“outsiders” or “fresh eyes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letely unique event.  No two lean events are a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CA and Kaiz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284120" y="2286000"/>
            <a:ext cx="595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Pl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kaizen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D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kaizen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Check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sult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ily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DI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age Daily Improv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Ac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Sustain, revisit, r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: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current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reas of opport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exist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standard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e with a final presentation to senior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is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ing something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get g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the Lean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es where and on 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the team focus its efforts. Describes what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is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inclu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focus on the proc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s the  value stream from customer’s poin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realistic, challenging, but not too aggressive.  Must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tain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uring which event is to occur (usually 3-5 d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vailability of team members, team leaders, consulta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times of excessively high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bou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getting things don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“stretch” objectives: create sense of urgency to generate dramatic improvem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objective proves unrealistic and cannot be accomplished in the event, put it on the to-do list with a date to revisi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lea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committed to the success of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ts: organization, communication, leadership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as for getting things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to team members and top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understand and accept responsi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time, effort, and full eng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slacker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unable to devote necessary time, can be included as ad-hoc memb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: competency to understand the process and make chan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functional representation: all departments involved in the process and influenced by it must be represent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sh eyes: people unfamiliar with an area have a unique perspective and see problems or suggest solutions other would mi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y management and especially to areas directly or indirectly affected by the chang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y services such as maintenance, IT, environmental services, purchasing, finance, safety, and infection control about dates and likely need for suppor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 team members beforehand in lean conce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aside a meeting place (“war room”) to meet, brainstorm, work, and ea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need standard work forms, markers, overhead, LCD projector, flip charts, table, chair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02:05:43Z</dcterms:created>
  <dc:creator>JMN</dc:creator>
  <dc:description/>
  <dc:language>en-US</dc:language>
  <cp:lastModifiedBy>John M Nicholas</cp:lastModifiedBy>
  <dcterms:modified xsi:type="dcterms:W3CDTF">2012-03-30T15:27:50Z</dcterms:modified>
  <cp:revision>16</cp:revision>
  <dc:subject/>
  <dc:title>Kaizen Blitz (Lean Event)</dc:title>
</cp:coreProperties>
</file>